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3BED04-9609-4F38-ADD0-7AF7FE1DC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0200C-3B50-49BA-A202-14B44CE70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C42515-1455-475A-BE67-6ED8387B30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D24E2B-0B3D-401C-B419-8ADC847E77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6C03A-D9E1-4310-ABF5-73FD6E8C9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BCCF7-C692-4BF0-B7A9-7614361D3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46AAB-3540-4133-AF12-E7AA881F8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A6913-2143-41A4-817B-2FBCC377A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9667C-AD96-49B2-B0F9-B3ACFB861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AC1ED-B1B4-4B0E-B2AB-C8277B5B2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05D01-0380-4810-AD98-47512BC90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A333B8-CE7B-4C44-86D7-76D7ED7E9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ABCCD-BCD6-4763-8EAE-8B3BBC82A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31D75-F439-4633-ADC9-7A6EC4067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6E82E-EF4C-4E79-A087-CA610D75C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7D8FB-0E07-46C3-95E0-CB8579DBF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65B59-9973-4394-B52E-2058B663A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2FBFCB-E242-4068-8D9C-275955CD7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530E12-AEDE-4265-96D8-A7E382827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93559-75DE-43F7-9F46-1FA5DFC96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A9ACA9-1B1D-4EC1-88D3-28F4CC190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FA65D-F3AE-44A8-88AD-8E538C5D5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972D8-1052-4851-A976-A6E883E45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86D4C-4602-402B-86C0-6FBE95A165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96C2-03AB-4FA2-B808-BE1D6526CF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AB3F-8588-4B87-9792-4D0B176AD13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F39A-9791-4DEE-A5DE-40A9262EF17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CE75-BC50-456E-8EC6-F2FF11E409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2FEA-D5FE-4FF9-9C72-49D3FEA427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8DAB-907A-4B8B-A495-FA2D8CC663A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08"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29"/>
                </a:solidFill>
                <a:uFillTx/>
                <a:latin typeface="Arial"/>
              </a:rPr>
              <a:t>BÀI 6</a:t>
            </a:r>
            <a:endParaRPr b="0" lang="en-US" sz="4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KỸ THUẬT</a:t>
            </a:r>
            <a:endParaRPr b="0" lang="en-US" sz="52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SOẠN THẢO &amp; TRÌNH BÀY</a:t>
            </a:r>
            <a:endParaRPr b="0" lang="en-US" sz="5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Arial"/>
              </a:rPr>
              <a:t>HỢP ĐỒNG</a:t>
            </a:r>
            <a:endParaRPr b="0" lang="en-US" sz="8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SỐ TIẾT GIẢNG: 1</a:t>
            </a:r>
            <a:endParaRPr b="0" lang="en-US" sz="3200" spc="-1" strike="noStrike">
              <a:solidFill>
                <a:srgbClr val="000000"/>
              </a:solidFill>
              <a:latin typeface="Arial"/>
            </a:endParaRPr>
          </a:p>
        </p:txBody>
      </p:sp>
      <p:sp>
        <p:nvSpPr>
          <p:cNvPr id="109" name="Frame 4"/>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51AA-60C2-43A2-B7EA-C70C1CB998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1356-579C-47A3-902E-CEC7DF27AA2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C</a:t>
            </a:r>
            <a:r>
              <a:rPr b="0" lang="en-US" sz="3400" spc="-1" strike="noStrike">
                <a:solidFill>
                  <a:srgbClr val="000029"/>
                </a:solidFill>
                <a:latin typeface="Arial"/>
              </a:rPr>
              <a:t>ác trường hợp miễn trách nhiệm do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M</a:t>
            </a:r>
            <a:r>
              <a:rPr b="0" lang="en-US" sz="3400" spc="-1" strike="noStrike">
                <a:solidFill>
                  <a:srgbClr val="000029"/>
                </a:solidFill>
                <a:latin typeface="Arial"/>
              </a:rPr>
              <a:t>ức phạt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Bên thua kiện phải trả chi phí thuê luật sư của bên thắng kiệ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Sửa đổi HĐ phải được lập thành văn bả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Quyền chuyển nhượng HĐ cho bên thứ ba</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Rủi ro đối với đối tượng HĐ.</a:t>
            </a:r>
            <a:endParaRPr b="0" lang="en-US" sz="3400" spc="-1" strike="noStrike">
              <a:solidFill>
                <a:srgbClr val="000000"/>
              </a:solidFill>
              <a:latin typeface="Arial"/>
            </a:endParaRPr>
          </a:p>
        </p:txBody>
      </p:sp>
      <p:sp>
        <p:nvSpPr>
          <p:cNvPr id="15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ÙY NGHI</a:t>
            </a:r>
            <a:endParaRPr b="0" lang="en-US" sz="36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4C6E-02B8-4F51-B5F5-5B6ED572EF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8D0A-0366-4FDC-B413-1001EF4A7EB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Arial"/>
              </a:rPr>
              <a:t>Máy móc, thiết bị cần quy định rõ phần mềm hay phụ tùng kèm the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rPr>
              <a:t>Những thiệt hại cụ thể do giao hàng chậ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N</a:t>
            </a:r>
            <a:r>
              <a:rPr b="0" lang="en-US" sz="3600" spc="-1" strike="noStrike">
                <a:solidFill>
                  <a:srgbClr val="000029"/>
                </a:solidFill>
                <a:latin typeface="Arial"/>
              </a:rPr>
              <a:t>gười chịu chi phí vận chuyể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Điều khoản về giải thích hợp đồng</a:t>
            </a:r>
            <a:endParaRPr b="0" lang="en-US" sz="3600" spc="-1" strike="noStrike">
              <a:solidFill>
                <a:srgbClr val="000000"/>
              </a:solidFill>
              <a:latin typeface="Arial"/>
            </a:endParaRPr>
          </a:p>
        </p:txBody>
      </p:sp>
      <p:sp>
        <p:nvSpPr>
          <p:cNvPr id="16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ẶT CHẼ, CỤ THỂ</a:t>
            </a:r>
            <a:endParaRPr b="0" lang="en-US" sz="36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3E40-EA97-4C58-9728-39441C26B1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C957-49C4-4024-8A35-BA482DCBC43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 Đại Tín ký với Cty Bảo hiểm AAA hợp đồng bảo hiểm xe ô-tô Mercedes với phạm vi bảo hiểm như sau: âm va, lật đổ, hỏa hoạn, cháy nổ, bão, lũ lụt, sụt lở, sét đánh, động đất, mưa đá, mất toàn bộ xe v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 khá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Ngày 1/8/2008 mưa kết hợp với triều cường ngập tầng hầm để xe của ngân hàng gây hư hỏng nặng chiếc Mercedes. Kết quả giám định thiệt hại: 400 triệu</a:t>
            </a:r>
            <a:endParaRPr b="0" lang="en-US" sz="3200" spc="-1" strike="noStrike">
              <a:solidFill>
                <a:srgbClr val="000000"/>
              </a:solidFill>
              <a:latin typeface="Arial"/>
            </a:endParaRPr>
          </a:p>
        </p:txBody>
      </p:sp>
      <p:sp>
        <p:nvSpPr>
          <p:cNvPr id="16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Ụ TRANH CHẤP HĐ</a:t>
            </a:r>
            <a:endParaRPr b="0" lang="en-US" sz="36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3519-F6CA-4A31-9CAC-46C3008272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3161-211B-4091-8E03-28362367E2D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0" name="PlaceHolder 1"/>
          <p:cNvSpPr>
            <a:spLocks noGrp="1"/>
          </p:cNvSpPr>
          <p:nvPr>
            <p:ph/>
          </p:nvPr>
        </p:nvSpPr>
        <p:spPr>
          <a:xfrm>
            <a:off x="457200" y="457200"/>
            <a:ext cx="8229600" cy="58672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Đại Tín cho rằng xe nằm trong phạm vi </a:t>
            </a:r>
            <a:r>
              <a:rPr b="1" i="1" lang="en-US" sz="3200" spc="-1" strike="noStrike">
                <a:solidFill>
                  <a:srgbClr val="000029"/>
                </a:solidFill>
                <a:latin typeface="Arial"/>
              </a:rPr>
              <a:t>“tai nạn rủi ro bất ngờ”</a:t>
            </a:r>
            <a:r>
              <a:rPr b="0" lang="en-US" sz="3200" spc="-1" strike="noStrike">
                <a:solidFill>
                  <a:srgbClr val="000029"/>
                </a:solidFill>
                <a:latin typeface="Arial"/>
              </a:rPr>
              <a:t> và yêu cầu AAA bồi thườ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AAA thì cho rằng việc nước ngập gây hư hại xe không thuộc phạm vi bảo hiểm vì </a:t>
            </a:r>
            <a:r>
              <a:rPr b="1" i="1" lang="en-US" sz="3200" spc="-1" strike="noStrike">
                <a:solidFill>
                  <a:srgbClr val="000029"/>
                </a:solidFill>
                <a:latin typeface="Arial"/>
              </a:rPr>
              <a:t>“tai nạn rủi ro bất ngờ”</a:t>
            </a:r>
            <a:r>
              <a:rPr b="0" lang="en-US" sz="3200" spc="-1" strike="noStrike">
                <a:solidFill>
                  <a:srgbClr val="000029"/>
                </a:solidFill>
                <a:latin typeface="Arial"/>
              </a:rPr>
              <a:t> là những rủi ro xảy chỉ trong tích tắc, không lường trước được như cành cây rơi, xe mất lái ... Còn sự cố mưa ngập xảy ra trong khoảng thời gian dài từ 16h30 – 17h nên không phải l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B63B-92F1-40E3-B56F-6034AB5E3D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441C-2D31-42B3-81D5-5686BFA9FD8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PlaceHolder 1"/>
          <p:cNvSpPr>
            <a:spLocks noGrp="1"/>
          </p:cNvSpPr>
          <p:nvPr>
            <p:ph/>
          </p:nvPr>
        </p:nvSpPr>
        <p:spPr>
          <a:xfrm>
            <a:off x="456840" y="533520"/>
            <a:ext cx="8381880" cy="579096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heo Từ điển Tiếng Việt 1994 – NXB KHXH: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ai ngờ, xảy ra ngoài dự tính”</a:t>
            </a:r>
            <a:r>
              <a:rPr b="0" lang="en-US" sz="3200" spc="-1" strike="noStrike">
                <a:solidFill>
                  <a:srgbClr val="00002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ừ điển Tiếng Việt – Ngôn ngữ học Việt Nam, NXB Thanh Hóa: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ngờ tới, không dự tính trước đượ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ư vậy </a:t>
            </a:r>
            <a:r>
              <a:rPr b="1" i="1" lang="en-US" sz="3200" spc="-1" strike="noStrike">
                <a:solidFill>
                  <a:srgbClr val="000029"/>
                </a:solidFill>
                <a:latin typeface="Arial"/>
              </a:rPr>
              <a:t>“bất ngờ”</a:t>
            </a:r>
            <a:r>
              <a:rPr b="0" lang="en-US" sz="3200" spc="-1" strike="noStrike">
                <a:solidFill>
                  <a:srgbClr val="000029"/>
                </a:solidFill>
                <a:latin typeface="Arial"/>
              </a:rPr>
              <a:t> không bao hàm khái niệm </a:t>
            </a:r>
            <a:r>
              <a:rPr b="1" i="1" lang="en-US" sz="3200" spc="-1" strike="noStrike">
                <a:solidFill>
                  <a:srgbClr val="000029"/>
                </a:solidFill>
                <a:latin typeface="Arial"/>
              </a:rPr>
              <a:t>“Xảy ra trong tích tắc”</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D77A-7833-4573-999E-5063AB89EC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EF1D-12F2-4456-8571-71906E24349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6" name="PlaceHolder 1"/>
          <p:cNvSpPr>
            <a:spLocks noGrp="1"/>
          </p:cNvSpPr>
          <p:nvPr>
            <p:ph/>
          </p:nvPr>
        </p:nvSpPr>
        <p:spPr>
          <a:xfrm>
            <a:off x="457200" y="533160"/>
            <a:ext cx="8229600" cy="56386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Giải thích hợp đồng bảo hiểm:</a:t>
            </a:r>
            <a:r>
              <a:rPr b="0" lang="en-US" sz="3200" spc="-1" strike="noStrike">
                <a:solidFill>
                  <a:srgbClr val="000029"/>
                </a:solidFill>
                <a:latin typeface="Arial"/>
              </a:rPr>
              <a:t> Nếu hợp đồng bảo hiểm có điều khoản không rõ ràng thì điều khoản đó được giải thích theo hướng có lợi cho bên mua bảo hiểm (Đ21 Luật Kinh doanh bảo hiểm 2000)</a:t>
            </a:r>
            <a:r>
              <a:rPr b="1" lang="en-US" sz="3200" spc="-1" strike="noStrike">
                <a:solidFill>
                  <a:srgbClr val="000029"/>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Kết luận:</a:t>
            </a:r>
            <a:r>
              <a:rPr b="0" lang="en-US" sz="3200" spc="-1" strike="noStrike">
                <a:solidFill>
                  <a:srgbClr val="000029"/>
                </a:solidFill>
                <a:latin typeface="Arial"/>
              </a:rPr>
              <a:t> Tranh chấp giữa AAA và Đại Tín xuất phát từ sự thiếu chặt chẽ và rõ ràng trong điều khoản quy định về phạm vi bảo hiểm, các bên đã không cụ thể hóa các trường hợp thuộc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B168-E2E0-415C-87A9-0AC0A64585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1654-C766-4630-B5A4-A316383219C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9" name="PlaceHolder 1"/>
          <p:cNvSpPr>
            <a:spLocks noGrp="1"/>
          </p:cNvSpPr>
          <p:nvPr>
            <p:ph/>
          </p:nvPr>
        </p:nvSpPr>
        <p:spPr>
          <a:xfrm>
            <a:off x="457200" y="1142640"/>
            <a:ext cx="8229600" cy="498780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Hợp đồng là gì?</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2) </a:t>
            </a:r>
            <a:r>
              <a:rPr b="0" lang="en-US" sz="3600" spc="-1" strike="noStrike">
                <a:solidFill>
                  <a:srgbClr val="000029"/>
                </a:solidFill>
                <a:latin typeface="Arial"/>
              </a:rPr>
              <a:t>Nêu các 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3)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	</a:t>
            </a:r>
            <a:r>
              <a:rPr b="1" lang="en-US" sz="3600" spc="-1" strike="noStrike" u="sng">
                <a:solidFill>
                  <a:srgbClr val="000029"/>
                </a:solidFill>
                <a:uFillTx/>
                <a:latin typeface="Arial"/>
              </a:rPr>
              <a:t>Bài tập về nhà:</a:t>
            </a:r>
            <a:r>
              <a:rPr b="0" lang="en-US" sz="3600" spc="-1" strike="noStrike">
                <a:solidFill>
                  <a:srgbClr val="000029"/>
                </a:solidFill>
                <a:latin typeface="Arial"/>
              </a:rPr>
              <a:t> Soạn hợp đồng mua bán hàng hóa?</a:t>
            </a:r>
            <a:endParaRPr b="0" lang="en-US" sz="3600" spc="-1" strike="noStrike">
              <a:solidFill>
                <a:srgbClr val="000000"/>
              </a:solidFill>
              <a:latin typeface="Arial"/>
            </a:endParaRPr>
          </a:p>
        </p:txBody>
      </p:sp>
      <p:sp>
        <p:nvSpPr>
          <p:cNvPr id="180"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ÂU HỎI ÔN TẬP</a:t>
            </a:r>
            <a:endParaRPr b="0" lang="en-US" sz="36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A1AE-B29F-4B63-B0FE-B6E156D7E8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FF11-3FD1-4100-80E0-2F9050F51FE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ái niệm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ea typeface="Arial"/>
              </a:rPr>
              <a:t>Phân </a:t>
            </a:r>
            <a:r>
              <a:rPr b="0" lang="en-US" sz="3600" spc="-1" strike="noStrike">
                <a:solidFill>
                  <a:srgbClr val="000029"/>
                </a:solidFill>
                <a:latin typeface="Arial"/>
              </a:rPr>
              <a:t>loại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Những lưu ý khi soạn thảo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ác lỗi thường gặp khi soạn thảo hợp đồng.</a:t>
            </a:r>
            <a:endParaRPr b="0" lang="en-US" sz="3600" spc="-1" strike="noStrike">
              <a:solidFill>
                <a:srgbClr val="000000"/>
              </a:solidFill>
              <a:latin typeface="Arial"/>
            </a:endParaRPr>
          </a:p>
        </p:txBody>
      </p:sp>
      <p:sp>
        <p:nvSpPr>
          <p:cNvPr id="11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ỘI DUNG BÀI GIẢNG</a:t>
            </a:r>
            <a:endParaRPr b="0" lang="en-US" sz="3600" spc="-1" strike="noStrike">
              <a:solidFill>
                <a:srgbClr val="000000"/>
              </a:solidFill>
              <a:latin typeface="Arial"/>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C9BD-C6B1-4FFA-87A3-30E01FF358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53F9-A931-4A4B-8B06-DB0B3E8E9E7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7"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hỏa thuận giữa các bên trên cơ sở tự nguyện, không vi phạm điều cấm của pháp luật, không trái đạo đức xã hội nhằm xác lập, thay đổi / chấm dứt quyền &amp; nghĩa vụ của các bê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Hợp đồng có tính ràng buộc đối với các bên về mặt pháp lý.</a:t>
            </a:r>
            <a:endParaRPr b="0" lang="en-US" sz="3600" spc="-1" strike="noStrike">
              <a:solidFill>
                <a:srgbClr val="000000"/>
              </a:solidFill>
              <a:latin typeface="Arial"/>
            </a:endParaRPr>
          </a:p>
        </p:txBody>
      </p:sp>
      <p:sp>
        <p:nvSpPr>
          <p:cNvPr id="118"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KHÁI NIỆM HỢP ĐỒNG</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3DD0-141F-47EF-8A04-27A62596C3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BECD-A7C6-4260-8F80-CA42BA65A4B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Người ký </a:t>
            </a:r>
            <a:r>
              <a:rPr b="0" lang="en-US" sz="3400" spc="-1" strike="noStrike">
                <a:solidFill>
                  <a:srgbClr val="000029"/>
                </a:solidFill>
                <a:latin typeface="Arial"/>
              </a:rPr>
              <a:t>hợp đồng có thẩm quyền ký</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Mục đích, nội dung hợp đồng không vi phạm điều cấm của pháp luật, trái đạo đức xã hộ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ủ thể tự nguyện tham gia quan hệ hợp đồ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Hình thức hợp đồng phù hợp quy định của pháp luật</a:t>
            </a:r>
            <a:endParaRPr b="0" lang="en-US" sz="3400" spc="-1" strike="noStrike">
              <a:solidFill>
                <a:srgbClr val="000000"/>
              </a:solidFill>
              <a:latin typeface="Arial"/>
            </a:endParaRPr>
          </a:p>
        </p:txBody>
      </p:sp>
      <p:sp>
        <p:nvSpPr>
          <p:cNvPr id="12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ĐIỀU KIỆN CÓ HIỆU LỰC</a:t>
            </a:r>
            <a:endParaRPr b="0" lang="en-US" sz="36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5" descr=""/>
          <p:cNvPicPr/>
          <p:nvPr/>
        </p:nvPicPr>
        <p:blipFill>
          <a:blip r:embed="rId1"/>
          <a:stretch/>
        </p:blipFill>
        <p:spPr>
          <a:xfrm>
            <a:off x="433440" y="1206360"/>
            <a:ext cx="8369280" cy="5133960"/>
          </a:xfrm>
          <a:prstGeom prst="rect">
            <a:avLst/>
          </a:prstGeom>
          <a:ln w="0">
            <a:noFill/>
          </a:ln>
        </p:spPr>
      </p:pic>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0DDA-47F6-4922-8E0A-C12175CA9B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E9F3-B99A-4249-A4BF-0BB7BB56CC8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8" name="Rectangle 6"/>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Horizontal Scroll 7"/>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PHÂN LOẠI HỢP ĐỒNG</a:t>
            </a:r>
            <a:endParaRPr b="0" lang="en-US" sz="3600" spc="-1" strike="noStrike">
              <a:solidFill>
                <a:srgbClr val="000000"/>
              </a:solidFill>
              <a:latin typeface="Arial"/>
            </a:endParaRPr>
          </a:p>
        </p:txBody>
      </p:sp>
      <p:sp>
        <p:nvSpPr>
          <p:cNvPr id="130" name="Oval 8"/>
          <p:cNvSpPr/>
          <p:nvPr/>
        </p:nvSpPr>
        <p:spPr>
          <a:xfrm>
            <a:off x="1523880" y="2743200"/>
            <a:ext cx="76212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1</a:t>
            </a:r>
            <a:endParaRPr b="0" lang="en-US" sz="3200" spc="-1" strike="noStrike">
              <a:solidFill>
                <a:srgbClr val="000000"/>
              </a:solidFill>
              <a:latin typeface="Arial"/>
            </a:endParaRPr>
          </a:p>
        </p:txBody>
      </p:sp>
      <p:sp>
        <p:nvSpPr>
          <p:cNvPr id="131" name="Oval 9"/>
          <p:cNvSpPr/>
          <p:nvPr/>
        </p:nvSpPr>
        <p:spPr>
          <a:xfrm>
            <a:off x="41911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2</a:t>
            </a:r>
            <a:endParaRPr b="0" lang="en-US" sz="3200" spc="-1" strike="noStrike">
              <a:solidFill>
                <a:srgbClr val="000000"/>
              </a:solidFill>
              <a:latin typeface="Arial"/>
            </a:endParaRPr>
          </a:p>
        </p:txBody>
      </p:sp>
      <p:sp>
        <p:nvSpPr>
          <p:cNvPr id="132" name="Oval 10"/>
          <p:cNvSpPr/>
          <p:nvPr/>
        </p:nvSpPr>
        <p:spPr>
          <a:xfrm>
            <a:off x="69343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3</a:t>
            </a:r>
            <a:endParaRPr b="0" lang="en-US" sz="3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35B3-2DD9-4902-A6B0-6950996437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4403-5BC9-4670-8F09-32B683D52EA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1) Phần căn cứ pháp lý &amp; thực t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Văn bản pháp luậ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rao đổi thống nhất giữa các bê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2) Phầ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ê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hông tin về chủ thể (địa chỉ, chức vụ, tài khoản, mã số thuế, điện thoạ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3) Phần nội dung thỏa thuậ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Các điều khoản hợp đồng</a:t>
            </a:r>
            <a:endParaRPr b="0" lang="en-US" sz="3200" spc="-1" strike="noStrike">
              <a:solidFill>
                <a:srgbClr val="000000"/>
              </a:solidFill>
              <a:latin typeface="Arial"/>
            </a:endParaRPr>
          </a:p>
        </p:txBody>
      </p:sp>
      <p:sp>
        <p:nvSpPr>
          <p:cNvPr id="13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CẤU TRÚC CỦA HỢP ĐỒNG</a:t>
            </a:r>
            <a:endParaRPr b="0" lang="en-US" sz="36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554D-CA08-44A8-B95C-5DFB5DD21D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EBFC-97D3-4722-A07C-0188E8D59CA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Tên hợp đồng theo nội dung thỏa thuậ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2)</a:t>
            </a:r>
            <a:r>
              <a:rPr b="0" lang="en-US" sz="3600" spc="-1" strike="noStrike">
                <a:solidFill>
                  <a:srgbClr val="000029"/>
                </a:solidFill>
                <a:latin typeface="Arial"/>
                <a:ea typeface="Arial"/>
              </a:rPr>
              <a:t> </a:t>
            </a:r>
            <a:r>
              <a:rPr b="0" lang="en-US" sz="3600" spc="-1" strike="noStrike">
                <a:solidFill>
                  <a:srgbClr val="000029"/>
                </a:solidFill>
                <a:latin typeface="Arial"/>
              </a:rPr>
              <a:t>Điều khoản thanh toán rõ rà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3)</a:t>
            </a:r>
            <a:r>
              <a:rPr b="0" lang="en-US" sz="3600" spc="-1" strike="noStrike">
                <a:solidFill>
                  <a:srgbClr val="000029"/>
                </a:solidFill>
                <a:latin typeface="Arial"/>
                <a:ea typeface="Arial"/>
              </a:rPr>
              <a:t> Chú trọng đ</a:t>
            </a:r>
            <a:r>
              <a:rPr b="0" lang="en-US" sz="3600" spc="-1" strike="noStrike">
                <a:solidFill>
                  <a:srgbClr val="000029"/>
                </a:solidFill>
                <a:latin typeface="Arial"/>
              </a:rPr>
              <a:t>iều khoản tùy nghi</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4)</a:t>
            </a:r>
            <a:r>
              <a:rPr b="0" lang="en-US" sz="3600" spc="-1" strike="noStrike">
                <a:solidFill>
                  <a:srgbClr val="000029"/>
                </a:solidFill>
                <a:latin typeface="Arial"/>
              </a:rPr>
              <a:t> Tính chặt chẽ, cụ thể của hợp đồng</a:t>
            </a:r>
            <a:endParaRPr b="0" lang="en-US" sz="3600" spc="-1" strike="noStrike">
              <a:solidFill>
                <a:srgbClr val="000000"/>
              </a:solidFill>
              <a:latin typeface="Arial"/>
            </a:endParaRPr>
          </a:p>
        </p:txBody>
      </p:sp>
      <p:sp>
        <p:nvSpPr>
          <p:cNvPr id="14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NHỮNG ĐIỂM CẦN LƯU Ý</a:t>
            </a:r>
            <a:endParaRPr b="0" lang="en-US" sz="36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5336-8A51-442E-928F-7CF2ABF26E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80A1-CEC1-4FEE-8774-ABA8BCBDD9B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Rectangle 3"/>
          <p:cNvSpPr/>
          <p:nvPr/>
        </p:nvSpPr>
        <p:spPr>
          <a:xfrm>
            <a:off x="457200" y="1066680"/>
            <a:ext cx="8229600" cy="5334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ông sử dụng tên “Hợp đồng kinh tế”.</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ặt tên hợp đồng theo nội dung thỏa thuận &amp; đối tượng hợp đồ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ạo thuận lợi cho công tác quản lý, giới hạn phạm vi văn bản pháp luật điều chỉnh.</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1" i="1" lang="en-US" sz="3600" spc="-1" strike="noStrike">
                <a:solidFill>
                  <a:srgbClr val="000029"/>
                </a:solidFill>
                <a:latin typeface="Arial"/>
              </a:rPr>
              <a:t>Ví dụ:</a:t>
            </a:r>
            <a:r>
              <a:rPr b="0" lang="en-US" sz="3600" spc="-1" strike="noStrike">
                <a:solidFill>
                  <a:srgbClr val="000029"/>
                </a:solidFill>
                <a:latin typeface="Arial"/>
              </a:rPr>
              <a:t> “Hợp đồng gia công”, “Hợp đồng mua bán hàng hóa”.</a:t>
            </a:r>
            <a:endParaRPr b="0" lang="en-US" sz="3600" spc="-1" strike="noStrike">
              <a:solidFill>
                <a:srgbClr val="000000"/>
              </a:solidFill>
              <a:latin typeface="Arial"/>
            </a:endParaRPr>
          </a:p>
        </p:txBody>
      </p:sp>
      <p:sp>
        <p:nvSpPr>
          <p:cNvPr id="14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HỢP ĐỒNG</a:t>
            </a:r>
            <a:endParaRPr b="0" lang="en-US" sz="36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F4A0-1BEB-438E-92F0-8ED43196C8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FAE9-8522-42BC-B116-81BC95B9BBF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0"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Rõ rà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Số tiề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hời gia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ế tài sẽ được áp dụng trường hợp vi phạm thanh toán (VD: Trả lãi theo lãi suất ngân hàng cho thời gian chậm thanh toán)</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rách nhiệm thanh toán các khoản thuế, phí, bảo hiểm …</a:t>
            </a:r>
            <a:endParaRPr b="0" lang="en-US" sz="3400" spc="-1" strike="noStrike">
              <a:solidFill>
                <a:srgbClr val="000000"/>
              </a:solidFill>
              <a:latin typeface="Arial"/>
            </a:endParaRPr>
          </a:p>
        </p:txBody>
      </p:sp>
      <p:sp>
        <p:nvSpPr>
          <p:cNvPr id="15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HANH TOÁN</a:t>
            </a:r>
            <a:endParaRPr b="0" lang="en-US" sz="36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9:27:25Z</dcterms:created>
  <dc:creator>Bài giảng QTVP_Thầy Nam Hà</dc:creator>
  <dc:description/>
  <dc:language>en-US</dc:language>
  <cp:lastModifiedBy>ntc</cp:lastModifiedBy>
  <dcterms:modified xsi:type="dcterms:W3CDTF">2014-03-23T15:25:26Z</dcterms:modified>
  <cp:revision>65</cp:revision>
  <dc:subject/>
  <dc:title>Chương 9.6</dc:title>
</cp:coreProperties>
</file>